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D95-BD4F-43EB-AF74-01214060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EB6-759A-444F-9467-72447FAC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A02-5F41-4373-B6E6-525C735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23A-EAE3-4F4D-9A5C-0184E502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A3F-2B7C-46A0-B7A1-9942554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D1A-57E5-4774-8BCD-6F2C22B3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352-28BF-4A05-8A9C-D95F19B8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0FC-D8A1-4C2C-BD4D-2822826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071-C4F8-462A-AB10-C8033289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168-704D-4EAA-BDAF-42477D9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DEB-FEF6-4679-B057-F685665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905-0F35-48D1-A3EC-637FD43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446B-ED69-4137-8258-7FDD4117E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Monica</cp:lastModifiedBy>
  <dcterms:modified xsi:type="dcterms:W3CDTF">2015-09-03T11:03:56Z</dcterms:modified>
  <cp:revision>20</cp:revision>
  <dc:subject/>
  <dc:title>Slide 1</dc:title>
</cp:coreProperties>
</file>